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A00-A298-46A5-B796-E04D7987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3F5-4ABA-4485-8172-1C87998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167-4BC3-4012-9C7F-44FDFA20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ACE-B804-481D-8771-B710DAB5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909-312F-456C-94B6-C205326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728-4A44-4E31-8D7B-A496B9E3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E95-3000-44D2-99E5-3CAF126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21B-D179-4E73-B30A-2D6717E9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3CC-EB5A-4ED5-ACE8-628A892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71C-EDC5-4CFB-9E51-A07381F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B3C-CF7E-47B8-A934-16A969C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B07-5F96-4B2A-837D-33E2A2F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B574-B745-45E9-AF5A-B7B6E283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882400">
            <a:off x="499320" y="1673280"/>
            <a:ext cx="5256360" cy="3110400"/>
          </a:xfrm>
          <a:prstGeom prst="rect">
            <a:avLst/>
          </a:prstGeom>
          <a:solidFill>
            <a:srgbClr val="a1a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Berlin Sans FB Demi"/>
              </a:rPr>
              <a:t>Answer My Questions!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12000" y="2487600"/>
            <a:ext cx="2533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Question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97000"/>
            <a:ext cx="79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Are spiders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does ant 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Are ants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are ins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erlin Sans FB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</a:rPr>
              <a:t>What are the colours of an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48000" y="126828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Spiders are not insect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1773360"/>
            <a:ext cx="2190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Ants eat crumb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7640" y="2276640"/>
            <a:ext cx="2076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Ants are insec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2852640"/>
            <a:ext cx="5724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Insects are little creatures that have 6 le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6360" y="3363840"/>
            <a:ext cx="20574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Black and blu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24360" y="260280"/>
            <a:ext cx="2241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Insects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0:38:53Z</dcterms:created>
  <dc:creator>phong.trang</dc:creator>
  <dc:description/>
  <dc:language>en-US</dc:language>
  <cp:lastModifiedBy>phong.trang</cp:lastModifiedBy>
  <dcterms:modified xsi:type="dcterms:W3CDTF">2009-06-19T00:47:45Z</dcterms:modified>
  <cp:revision>3</cp:revision>
  <dc:subject/>
  <dc:title>Slide 1</dc:title>
</cp:coreProperties>
</file>